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EE0FE-53D6-40D5-8A78-153573DBF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2CA9E-2B4C-44BD-88EE-9D468C398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3357D-7C38-4246-85D0-542622003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7781E-C5C2-49B2-98E3-7F5A3F6FA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3BCFB-D115-4E66-905A-3B566F16F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76226-9CBD-4341-A7D2-F461E8D64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6B166-3475-4F3E-AA1F-9D2B76FEC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DF325-A0B0-432E-BDC5-561EBA05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64C4B-AE79-4D0E-9735-099A14733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7BEB2-665A-47D8-B782-3435D7E73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D4BC6-DB5E-4D38-87A2-57BEC115C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96AF2-F7BE-4D3D-8C13-CFEC558D2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AD7F-C8F6-4542-AFBF-247541FD4F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EN THINGS ABOUT A BUSHRANGERS</a:t>
            </a:r>
            <a:br>
              <a:rPr sz="4000"/>
            </a:br>
            <a:r>
              <a:rPr b="0" lang="en-US" sz="4000" spc="-1" strike="noStrike">
                <a:solidFill>
                  <a:srgbClr val="000000"/>
                </a:solidFill>
                <a:latin typeface="Arial"/>
              </a:rPr>
              <a:t>BY:THOMAS TIKER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333360"/>
            <a:ext cx="91440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What helped the bushrangers run away from the pol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ode on horses to runaway very quick and shot some police while riding on the horse. horses helped bushrangers by going one place to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Arial"/>
              </a:rPr>
              <a:t>10.How do bushrangers get money</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ushrangers get money by stealing from banks and people. Bushrangers done very cruel things to steal, they would run into some where like a bank then they will run in and point their gun at someone and they will say “stick up your hands and give me all the money in your bank” then they will run off before the cops get there and get a horse to run off with. But some bushrangers didn’t e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bushranger</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ushranger is someone who is very cruel and mean and they are always threatening people very bad. They would point there gun at them. And might kill or rob them. Being a bushranger could get you money quite easy. But the hole point of a bushranger was to get money cause they were vey po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Ned Kelly is the most  famous bushranger in Australia. He was born in 1855 and at age 15 he had his first accident with the police for helping another bushranger named Harry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5280" y="260280"/>
            <a:ext cx="8229600" cy="6337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Bush rangers were robbers in the 19</a:t>
            </a:r>
            <a:r>
              <a:rPr b="0" lang="en-US" sz="3200" spc="-1" strike="noStrike" baseline="30000">
                <a:solidFill>
                  <a:srgbClr val="ffffff"/>
                </a:solidFill>
                <a:latin typeface="Arial"/>
              </a:rPr>
              <a:t>th</a:t>
            </a:r>
            <a:r>
              <a:rPr b="0" lang="en-US" sz="3200" spc="-1" strike="noStrike">
                <a:solidFill>
                  <a:srgbClr val="ffffff"/>
                </a:solidFill>
                <a:latin typeface="Arial"/>
              </a:rPr>
              <a:t>century and they used the rainforests and bushes for there main ba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5280" y="189000"/>
            <a:ext cx="8229600" cy="6408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What did the people on the gold fields feel about the bushranger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ople on the goldfields hated the bushrangers cause they stole or done bad things to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259920"/>
            <a:ext cx="8229600" cy="6264360"/>
          </a:xfrm>
          <a:prstGeom prst="rect">
            <a:avLst/>
          </a:prstGeom>
          <a:noFill/>
          <a:ln w="0">
            <a:noFill/>
          </a:ln>
        </p:spPr>
        <p:txBody>
          <a:bodyPr lIns="90000" rIns="90000" tIns="46800" bIns="46800" anchor="t">
            <a:normAutofit/>
          </a:bodyPr>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5.What do the bushrangers eat?</a:t>
            </a:r>
            <a:endParaRPr b="0" lang="en-US" sz="3200" spc="-1" strike="noStrike">
              <a:solidFill>
                <a:srgbClr val="000000"/>
              </a:solidFill>
              <a:latin typeface="Arial"/>
            </a:endParaRPr>
          </a:p>
          <a:p>
            <a:pPr marL="343080" indent="-343080">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Bushrangers eat meat ,potatoes, onions, or they will go hunt for animals and they hunt wild rabbits and ate salty meat and that’s how they survi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260280"/>
            <a:ext cx="88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 bushrangers rob peopl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hrangers have many ways of robbing people. One way of the bushranger robs is  that they hide and wait then when a person walks past they will jump out if there hiding spot and point their gun at them and tell them to give them all the money you have all else you will die. And that’s called threaten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250920" y="333360"/>
            <a:ext cx="889308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What protects bushranger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used metal masks and armour to protect themselves from running away from the pol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79280" y="404640"/>
            <a:ext cx="871380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8.What do bushrangers like do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ushrangers like killing and stealing things from many people and places. Bushrangers were born to kill and steal because they were very p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23:17:40Z</dcterms:created>
  <dc:creator>thomas_tikeri</dc:creator>
  <dc:description/>
  <dc:language>en-US</dc:language>
  <cp:lastModifiedBy>thomas_tikeri</cp:lastModifiedBy>
  <dcterms:modified xsi:type="dcterms:W3CDTF">2010-09-06T03:50:59Z</dcterms:modified>
  <cp:revision>8</cp:revision>
  <dc:subject/>
  <dc:title> TEN THINGS ABOUT A BUSHRANGERS</dc:title>
</cp:coreProperties>
</file>